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2C0-A75F-4380-B678-BAB8393A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D56-B127-44F0-A59E-34BC8AAA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F52-9931-4133-942D-384A25C6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ACC-CD26-4221-9245-1554E3A2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445-7510-45E4-AD71-6FB545A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A45-A7EB-4DDA-9431-F4C10870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98D-582F-4624-8417-6BD372D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41D-6C88-4917-A01E-35678FD3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772-4904-4A40-A9B9-DF7AD92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53D-A1DF-46B9-B231-F9A42FB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400-AD8F-47B5-8A46-63BFB70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F6F-4E83-4DC0-B0BB-E89986C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1FCB-D291-4AD0-825E-30B6E147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0"/>
            <a:ext cx="487656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xtile"/>
              </a:rPr>
              <a:t>pH Sca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of the concentration of hydrogen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concentration of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r hydronium 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conc. of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.k.a. hydroxide 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0040" y="5715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= -log 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60800" y="82440"/>
            <a:ext cx="4178520" cy="669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00400" y="3657600"/>
            <a:ext cx="1549440" cy="1193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2146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2311560"/>
            <a:ext cx="4965480" cy="37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73656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3200400"/>
            <a:ext cx="99072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727360"/>
            <a:ext cx="253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Oxygen shares its two unpaired electrons with two hydrogen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25092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extile"/>
              </a:rPr>
              <a:t>Water’s Molecular Structu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146640" cy="4381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2360" y="5272200"/>
            <a:ext cx="64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lectronega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ndency for an atom to attract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76320"/>
            <a:ext cx="9144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80"/>
                </a:solidFill>
                <a:latin typeface="Marker Felt"/>
              </a:rPr>
              <a:t>Solubil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harges attract it to other 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gars, ionic compounds (like salt), and some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attracted to nonpolar substances like lipids (fa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23920" y="6643800"/>
            <a:ext cx="424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questacon.edu.au/html/squad_activities/assets/images/oil-and-water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5333760" cy="3740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extile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520" y="609480"/>
            <a:ext cx="62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, polar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rapidly and break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590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1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-Bonding explains unique properties: cohesion, adhesion, high heat capacity, evaporative cooling, the low density of ice, the ability of water to dissolve many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3320"/>
            <a:ext cx="7162560" cy="4954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2320" y="6400800"/>
            <a:ext cx="308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realeyz.com/photo/macro/photos/leaf_drops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560" y="31680"/>
            <a:ext cx="8856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Marker Felt"/>
              </a:rPr>
              <a:t>Cohe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cules of the same substance are attract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s to surface tension and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Adhe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on between molecules of different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glass an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3962520" cy="319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79480" y="6643800"/>
            <a:ext cx="222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staff.um.edu.mt/rlib1/sm/wpe32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440" y="4343400"/>
            <a:ext cx="87026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Capilla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on that causes the surface of the liquid to rise when in contact with a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2560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Marker Felt"/>
              </a:rPr>
              <a:t>Cohesion-Adhesion The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As water evaporates from leaves, it tugs on the water molecules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ohesion and adhesion pull water up and replace missing wate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Water enters the roots by o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58240" y="6643800"/>
            <a:ext cx="27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www.emc.maricopa.edu/.../BioBookPLANTHORM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07200" y="228600"/>
            <a:ext cx="2743200" cy="217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07200" y="2590920"/>
            <a:ext cx="2743200" cy="193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07200" y="4800600"/>
            <a:ext cx="2743200" cy="189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you ever wonder:  How does water move from roots to leaves when a tree doesn’t have a heart to pump the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136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80880"/>
            <a:ext cx="480060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Denisty of 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olids are more dense than their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his makes solids s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e is less dense than liqui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ue to H-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mportant to life because bodies of water freeze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llows life to surviv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19680" y="304920"/>
            <a:ext cx="4324320" cy="58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54080" y="6324480"/>
            <a:ext cx="270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shiftingbaselines.org/blog/images/Iceberg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8:15:26Z</dcterms:created>
  <dc:creator>Tech Support</dc:creator>
  <dc:description/>
  <dc:language>en-US</dc:language>
  <cp:lastModifiedBy>Tech Support</cp:lastModifiedBy>
  <dcterms:modified xsi:type="dcterms:W3CDTF">2006-11-13T21:18:45Z</dcterms:modified>
  <cp:revision>13</cp:revision>
  <dc:subject/>
  <dc:title>PowerPoint Presentation</dc:title>
</cp:coreProperties>
</file>